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CCC-1315-44CF-9194-A803BEBE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DCD-F157-47D1-BA12-E37DF77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494-6842-4701-BA42-1CEC9421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45B-8E56-4CCE-852F-9244CABA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918C-88DC-4A6C-9B78-CE2D1E3D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15B7-B172-42D3-B892-76086D8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72E89-E9C4-41F9-928C-FA897316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FB15-FDBE-44C4-A79A-ABC0B1F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A6071-7023-4837-BC70-1888A4C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FDDD-12EA-4435-90BF-A3537A3F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5D04-0F38-4108-A48D-E9292D4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948-9CFB-46F4-847B-693CE7E1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D417-61AA-4ADE-BEC2-ABA26B3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CF0DD-275F-471A-B247-88F7B8C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8734E-E0CC-4EF2-83FA-FDD6339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9E1D2-A695-4FCB-94B4-12EA18A0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2631-498B-4436-B56D-885DE63C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8F0-6808-43EB-821C-1B80CD6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FF9-A886-4F63-B167-0193AEAC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85F-3DA0-4B3E-A64B-DA992E0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980-8C95-4478-B65D-824748D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B82-1D8F-4171-A95C-0618839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983-8D9C-405E-99C9-8073FF4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666-FC05-44BA-9C8A-23F04EE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8F86-D584-43E8-8EC3-A4C2EC4A5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206-5279-4D42-9864-BB037BE110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ocm2006.narod.ru/" TargetMode="External"/><Relationship Id="rId2" Type="http://schemas.openxmlformats.org/officeDocument/2006/relationships/hyperlink" Target="mailto:pocm2006@yandex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Путешествие по Библ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ин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. Отношение к Слову Божьем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на первом стуле принимает решения на основании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ибл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на втором стуле принимает решения под влиянием других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христиан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 на третьем стуле принимает решения под влиянием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щест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70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ш адрес в интернете:</a:t>
            </a:r>
            <a:br>
              <a:rPr sz="4400"/>
            </a:b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pocm2006.narod.ru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-mail: </a:t>
            </a: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pocm2006@yandex.ru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Духовное обновление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вашей </a:t>
            </a:r>
            <a:r>
              <a:rPr b="1" lang="ru-RU" sz="5000" spc="-1" strike="noStrike" u="sng">
                <a:solidFill>
                  <a:srgbClr val="ff9900"/>
                </a:solidFill>
                <a:uFillTx/>
                <a:latin typeface="Arial"/>
              </a:rPr>
              <a:t>жизни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новление в жизн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исуса Навин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Первый стул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к бойтесь Господа и служите Ему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чистоте и искренности; отвергните богов, которым служили отцы ваши за рекою и в Египте, а служите Господ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же не угодно вам служить Господу, то изберите себе ныне, кому служить, богам ли, которым служили отцы ваши, бывшие за рекою, или богам Аморреев, в земле которых живете;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 я и дом мой будем служить Госп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исус Навин 24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:14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новление в жизни Иисуса Навина</a:t>
            </a:r>
            <a:br>
              <a:rPr sz="35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Второй стул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служил Израиль Господу во все дни Иисуса и во все дни старейшин, которых жизнь продлилась после Иисуса и которые видели все дела Господа, какие Он сделал Израил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исус Навин 24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31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гда народ служил Господу во все дни Иисуса и во все дни старейшин, которых жизнь продлилась после Иисуса и которые видели все великие дела Господни, какие Он сделал Израил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де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: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новление в жизни Иисуса Навин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ретий сту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 когда весь народ оный отошел к отцам своим, и восстал после них другой род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орый не знал Господа и дел Его, какие Он делал Израилю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гда сыны Израилевы стали делать злое пред очами Господа и стали служить Ваалам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авили Господа, Бога отцов своих, который вывел их из земли Египетской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 обратились к другим богам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 стали поклоняться и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дей 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:10-12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 Три поколения эпохи Иисуса Нави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первом стуле сидел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Иисус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Навин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втором стуле сидели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тарейшин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ретьем стуле сидело 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ледующее покол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. Отношения с Богом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и на первом стуле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знаю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Б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и на втором стуле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знаю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Б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и на третьем стул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не знаю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Б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. Общая характеристи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у на первом стуле свойственно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посвящ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у на втором стуле свойственен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компромис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у на третьем стуле свойственен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конфлик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 Отношение к делам Господ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коление Иисуса Навина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принимало участ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делах Госп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клонение старейшин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видело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ла Госп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едующее поколение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не знал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делах Госп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2:45:17Z</dcterms:created>
  <dc:creator>Victor</dc:creator>
  <dc:description/>
  <dc:language>en-US</dc:language>
  <cp:lastModifiedBy>Жанна</cp:lastModifiedBy>
  <dcterms:modified xsi:type="dcterms:W3CDTF">2006-07-11T14:50:57Z</dcterms:modified>
  <cp:revision>86</cp:revision>
  <dc:subject/>
  <dc:title>1 Слушайте повесть любви в простоте, Слушайте дивный рассказ: Бог нас навеки простил во Христе, Бог нас от гибели спа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2759470</vt:r8>
  </property>
  <property fmtid="{D5CDD505-2E9C-101B-9397-08002B2CF9AE}" pid="3" name="_AuthorEmail">
    <vt:lpwstr>wtb@wtb.kiev.ua</vt:lpwstr>
  </property>
  <property fmtid="{D5CDD505-2E9C-101B-9397-08002B2CF9AE}" pid="4" name="_AuthorEmailDisplayName">
    <vt:lpwstr>wtb</vt:lpwstr>
  </property>
  <property fmtid="{D5CDD505-2E9C-101B-9397-08002B2CF9AE}" pid="5" name="_EmailSubject">
    <vt:lpwstr>2</vt:lpwstr>
  </property>
  <property fmtid="{D5CDD505-2E9C-101B-9397-08002B2CF9AE}" pid="6" name="_ReviewingToolsShownOnce">
    <vt:lpwstr/>
  </property>
</Properties>
</file>