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A80-CEC4-4F84-A26F-A217C7C3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B32-9D2E-468C-991D-E5CF04A0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95A-9305-4110-BA9B-FCBF9C22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123-6A6B-4854-A7E7-29D2FBAA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ABE6-B4E4-4249-A450-4D5E3B11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E3CA-0DD3-45D7-9D60-91B26FED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A19C-ACA7-45E4-B2AE-8B097960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CF1A-7840-47B8-BDB0-C6BC4BAD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063-38C7-4A92-A73D-95D5F37E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36A7-A74F-4DAC-9F30-98C62625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AC5D-82EF-4EDB-939B-4C56238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DB6-0782-44F6-9F1B-6DA3A905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8114-E945-4EC0-8787-0410852B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B798-9909-48E5-9C2C-5618BC6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8C7B-121B-41F9-9D07-650501FE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31E-A916-4BC0-869B-D6966F08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83A1-F93F-48B5-BC9E-EFC316C0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807-1CCB-4A21-9A8A-B7AEA5A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256-D448-4F91-8062-7A1DF2BF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1E5-2F47-4B29-BDE9-E51E6196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850-3B67-4115-8553-88BA80AF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187-652E-4F28-98BA-FF944A78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F18-4280-4147-AB3C-1F931D9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B9D-438A-42FF-AA61-AF88073D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3A2-2E9B-48D4-869F-AA57075747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10B2-580A-4063-B388-787CA78E5F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ocm2006.narod.ru/" TargetMode="External"/><Relationship Id="rId2" Type="http://schemas.openxmlformats.org/officeDocument/2006/relationships/hyperlink" Target="mailto:pocm2006@yandex.ru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утешествие по Библ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ин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132000" y="5661000"/>
            <a:ext cx="3024360" cy="981000"/>
          </a:xfrm>
          <a:prstGeom prst="rect">
            <a:avLst/>
          </a:prstGeom>
          <a:gradFill rotWithShape="0">
            <a:gsLst>
              <a:gs pos="0">
                <a:srgbClr val="720000"/>
              </a:gs>
              <a:gs pos="100000">
                <a:srgbClr val="34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4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Tahoma"/>
              </a:rPr>
              <a:t>УРОК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708360" y="333000"/>
            <a:ext cx="5035680" cy="2879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Tahoma"/>
              </a:rPr>
              <a:t>ИСПЫТАНИЯ ВАШЕЙ </a:t>
            </a:r>
            <a:br>
              <a:rPr sz="5400"/>
            </a:br>
            <a:r>
              <a:rPr b="1" lang="en-US" sz="5400" spc="-1" strike="noStrike">
                <a:solidFill>
                  <a:srgbClr val="ffff99"/>
                </a:solidFill>
                <a:latin typeface="Tahoma"/>
              </a:rPr>
              <a:t>ВЕРЫ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92360" y="3284640"/>
            <a:ext cx="53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ahoma"/>
              </a:rPr>
              <a:t>Как выдержать испытание в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ahoma"/>
              </a:rPr>
              <a:t>( Часть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981000"/>
            <a:ext cx="3024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С великою радостью принимайте, братия мои, когда впадаете </a:t>
            </a: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        </a:t>
            </a: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в различные иску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акова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1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0"/>
            <a:ext cx="8964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Arial Black"/>
              </a:rPr>
              <a:t>ИСПЫТ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Arial Black"/>
              </a:rPr>
              <a:t>ВАШЕ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660033"/>
                </a:solidFill>
                <a:latin typeface="Arial Black"/>
              </a:rPr>
              <a:t>ВЕРЫ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Tahoma"/>
              </a:rPr>
              <a:t>БОЖЬЯ ЦЕЛЬ</a:t>
            </a: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3645000"/>
            <a:ext cx="8569080" cy="24508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Чтобы мы могли ст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ЗРЕЛЫМИ</a:t>
            </a:r>
            <a:r>
              <a:rPr b="0" lang="en-US" sz="32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СОВЕРШЕННЫМИ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ни в чем в жизни                                     не испытывающим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99ff"/>
                </a:solidFill>
                <a:latin typeface="Tahoma"/>
              </a:rPr>
              <a:t>НЕДОСТАТ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60280"/>
            <a:ext cx="8207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С великою радостью принимайте, братия мои, когда впадаете в различные искушения, зная, что испытание вашей веры производит терпение; терпение же должно иметь совершенное действие, чтобы вы были совершенны во всей полноте, без всякого недостат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ак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:2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к выдержать испытание вер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Часть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0"/>
            <a:ext cx="8964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Arial Black"/>
              </a:rPr>
              <a:t>ИСПЫТ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Arial Black"/>
              </a:rPr>
              <a:t>ВАШЕ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660033"/>
                </a:solidFill>
                <a:latin typeface="Arial Black"/>
              </a:rPr>
              <a:t>ВЕРЫ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Убеждения относительно испытания в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Бог испытывает 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99ff"/>
                </a:solidFill>
                <a:latin typeface="Tahoma"/>
              </a:rPr>
              <a:t>ВЕРУ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Своих детей различным образом и многогра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к выдержать испытание вер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Часть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3357720"/>
            <a:ext cx="712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00ff00"/>
                </a:solidFill>
                <a:latin typeface="Tahoma"/>
              </a:rPr>
              <a:t>Иаков, раб Бога и Господа Иисуса Христа, двенадцати коленам, находящимся в рассеянии, - радоваться. С великою радостью принимайте, братия мои, когда впадаете в различные иску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Иак. 1:1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9280" y="0"/>
            <a:ext cx="8964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Arial Black"/>
              </a:rPr>
              <a:t>ИСПЫТ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Arial Black"/>
              </a:rPr>
              <a:t>ВАШЕ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660033"/>
                </a:solidFill>
                <a:latin typeface="Arial Black"/>
              </a:rPr>
              <a:t>ВЕРЫ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Tahoma"/>
              </a:rPr>
              <a:t>СЕМЬ ПРИНЦИПОВ ИСПЫТАНИЯ ВЕРЫ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Испытания только</a:t>
            </a:r>
            <a:r>
              <a:rPr b="1" i="1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99ff"/>
                </a:solidFill>
                <a:latin typeface="Tahoma"/>
              </a:rPr>
              <a:t>временны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Если </a:t>
            </a:r>
            <a:r>
              <a:rPr b="1" i="1" lang="en-US" sz="2800" spc="-1" strike="noStrike">
                <a:solidFill>
                  <a:srgbClr val="0099ff"/>
                </a:solidFill>
                <a:latin typeface="Tahoma"/>
              </a:rPr>
              <a:t>нужно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Каждое испытание приносит какую-либо </a:t>
            </a:r>
            <a:r>
              <a:rPr b="1" i="1" lang="en-US" sz="2800" spc="-1" strike="noStrike">
                <a:solidFill>
                  <a:srgbClr val="0099ff"/>
                </a:solidFill>
                <a:latin typeface="Tahoma"/>
              </a:rPr>
              <a:t>скорбь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Бывают </a:t>
            </a:r>
            <a:r>
              <a:rPr b="1" i="1" lang="en-US" sz="2800" spc="-1" strike="noStrike">
                <a:solidFill>
                  <a:srgbClr val="0099ff"/>
                </a:solidFill>
                <a:latin typeface="Tahoma"/>
              </a:rPr>
              <a:t>различные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виды испыт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Бог посылает испытания, чтобы наша вера была </a:t>
            </a:r>
            <a:r>
              <a:rPr b="1" i="1" lang="en-US" sz="2800" spc="-1" strike="noStrike">
                <a:solidFill>
                  <a:srgbClr val="0099ff"/>
                </a:solidFill>
                <a:latin typeface="Tahoma"/>
              </a:rPr>
              <a:t>истинной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Наша вера более </a:t>
            </a:r>
            <a:r>
              <a:rPr b="1" i="1" lang="en-US" sz="2800" spc="-1" strike="noStrike">
                <a:solidFill>
                  <a:srgbClr val="0099ff"/>
                </a:solidFill>
                <a:latin typeface="Tahoma"/>
              </a:rPr>
              <a:t>драгоценна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i="1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чем золо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Ваша </a:t>
            </a:r>
            <a:r>
              <a:rPr b="1" i="1" lang="en-US" sz="2800" spc="-1" strike="noStrike">
                <a:solidFill>
                  <a:srgbClr val="0099ff"/>
                </a:solidFill>
                <a:latin typeface="Tahoma"/>
              </a:rPr>
              <a:t>вера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33cc"/>
                </a:solidFill>
                <a:latin typeface="Tahoma"/>
              </a:rPr>
              <a:t>-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это Божья слава при Втором пришеств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к выдержать испытание вер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Часть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9280" y="0"/>
            <a:ext cx="8964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Arial Black"/>
              </a:rPr>
              <a:t>ИСПЫТ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Arial Black"/>
              </a:rPr>
              <a:t>ВАШЕ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660033"/>
                </a:solidFill>
                <a:latin typeface="Arial Black"/>
              </a:rPr>
              <a:t>ВЕРЫ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Убеждения относительно испытания вер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ог знает 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Tahoma"/>
              </a:rPr>
              <a:t>ВСЁ, ЧТО ВАМ НУЖНО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в ваших испытаниях.                                   </a:t>
            </a:r>
            <a:r>
              <a:rPr b="0" i="1" lang="ru-RU" sz="2000" spc="-1" strike="noStrike">
                <a:solidFill>
                  <a:srgbClr val="ff00ff"/>
                </a:solidFill>
                <a:latin typeface="Tahoma"/>
              </a:rPr>
              <a:t>Матф. 11:2-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к выдержать испытание вер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Часть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2276640"/>
            <a:ext cx="6769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Tahoma"/>
              </a:rPr>
              <a:t>И блажен, кто не соблазнится о М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Матф. 11: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3213000"/>
            <a:ext cx="8229600" cy="1224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Необходимо помнить и верить, что Бог 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Tahoma"/>
              </a:rPr>
              <a:t>ВСЕГДА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рядом с вами во время испыт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00ff"/>
                </a:solidFill>
                <a:latin typeface="Tahoma"/>
              </a:rPr>
              <a:t>Даниил 3:15-16, 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36572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ff00"/>
                </a:solidFill>
                <a:latin typeface="Tahoma"/>
              </a:rPr>
              <a:t>Бог наш, Которому мы служим, силен спасти нас от печи, раскаленной огнем, и от руки твоей, царь, избавит. Если же и не будет того, то да будет известно тебе, царь, что мы богам твоим служить не будем и золотому истукану, которого ты поставил, не поклоним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Дан. 3:17,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0"/>
            <a:ext cx="8964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Arial Black"/>
              </a:rPr>
              <a:t>ИСПЫТ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Arial Black"/>
              </a:rPr>
              <a:t>ВАШЕ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660033"/>
                </a:solidFill>
                <a:latin typeface="Arial Black"/>
              </a:rPr>
              <a:t>ВЕРЫ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Убеждения относительно испытания вер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В конечном счете, всё и всегда 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Tahoma"/>
              </a:rPr>
              <a:t>ПОД КОНТРОЛЕМ БОГА.                  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00ff"/>
                </a:solidFill>
                <a:latin typeface="Tahoma"/>
              </a:rPr>
              <a:t>Иов 1:13-1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к выдержать испытание вер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Часть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07664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Бог обладает </a:t>
            </a:r>
            <a:r>
              <a:rPr b="1" lang="en-US" sz="2800" spc="-1" strike="noStrike">
                <a:solidFill>
                  <a:srgbClr val="0099ff"/>
                </a:solidFill>
                <a:latin typeface="Tahoma"/>
              </a:rPr>
              <a:t>АБСОЛЮТНОЙ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сил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ff"/>
                </a:solidFill>
                <a:latin typeface="Tahoma"/>
              </a:rPr>
              <a:t>Числа 11:10,1 3, 18-20, 22, 31-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2276640"/>
            <a:ext cx="79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Тогда Иов встал и разодрал верхнюю одежду свою, остриг голову свою и пал на землю и поклонился и сказал: наг я вышел из чрева матери моей, наг и возвращусь. Господь дал, Господь и взял; да будет имя Господне благословенн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Tahoma"/>
              </a:rPr>
              <a:t>Иов.</a:t>
            </a:r>
            <a:r>
              <a:rPr b="1" lang="en-US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Tahoma"/>
              </a:rPr>
              <a:t>1:20,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4941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И сказал Господь Моисею: разве рука Господня коротка? Ныне ты увидишь, сбудется ли слово Мое тебе,    или н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Чис.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11: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0"/>
            <a:ext cx="8964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Arial Black"/>
              </a:rPr>
              <a:t>ИСПЫТАНИ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33"/>
                </a:solidFill>
                <a:latin typeface="Arial Black"/>
              </a:rPr>
              <a:t>ВАШЕ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660033"/>
                </a:solidFill>
                <a:latin typeface="Arial Black"/>
              </a:rPr>
              <a:t>ВЕРЫ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257880"/>
            <a:ext cx="9144000" cy="6001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к выдержать испытание веры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 Часть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аш адрес в интернете</a:t>
            </a:r>
            <a:br>
              <a:rPr sz="4400"/>
            </a:b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pocm2006.narod.ru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-mail: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pocm2006@yandex.ru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17:24:44Z</dcterms:created>
  <dc:creator>Игорь</dc:creator>
  <dc:description/>
  <dc:language>en-US</dc:language>
  <cp:lastModifiedBy>Жанна</cp:lastModifiedBy>
  <dcterms:modified xsi:type="dcterms:W3CDTF">2006-07-11T14:43:15Z</dcterms:modified>
  <cp:revision>17</cp:revision>
  <dc:subject/>
  <dc:title>ИСПЫТАНИЕ ВАШЕЙ  ВЕ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9362953</vt:r8>
  </property>
  <property fmtid="{D5CDD505-2E9C-101B-9397-08002B2CF9AE}" pid="3" name="_AuthorEmail">
    <vt:lpwstr>wtb@wtb.kiev.ua</vt:lpwstr>
  </property>
  <property fmtid="{D5CDD505-2E9C-101B-9397-08002B2CF9AE}" pid="4" name="_AuthorEmailDisplayName">
    <vt:lpwstr>wtb</vt:lpwstr>
  </property>
  <property fmtid="{D5CDD505-2E9C-101B-9397-08002B2CF9AE}" pid="5" name="_EmailSubject">
    <vt:lpwstr>3</vt:lpwstr>
  </property>
  <property fmtid="{D5CDD505-2E9C-101B-9397-08002B2CF9AE}" pid="6" name="_ReviewingToolsShownOnce">
    <vt:lpwstr/>
  </property>
</Properties>
</file>