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4266-8541-4572-8957-569A28FA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9C6C-5779-459C-9CB8-18B231D5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43E5-AE71-4E6F-9CD5-8F1984CD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9ED1-C47F-430A-AB31-4925DD46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3AB2-DA0E-4964-AA7B-73F15FC3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464D-CCD4-420D-8695-829A9AE6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7F54-F041-449C-9385-58222FEB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42D7-927F-4D7B-AA5A-F75741EA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41C6-ECBA-4E5F-B37A-B5AA1605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85AB-0DF4-4AA0-BE1F-333954FB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506F-79AD-4F64-98FA-66B2DC29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AE78-63A3-487B-A167-4944DE0C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C6B3-9CE0-401E-83D8-F421D958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DCC3-B24C-44A7-9BCE-28E05940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48DF-C3F5-487A-BB38-9CA15D74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EFF5-E9E6-468B-958F-CE85C430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DE35-6481-4F29-8E99-34933DA2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6FD-F4C1-47C1-9DFC-4746D5F2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304-051D-4A31-B334-5206E7BF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211-96CE-4616-8CE0-252EBC90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1316-5233-421C-93E2-0512F48D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2A0A-26B5-43C2-AC0B-25ECC48D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61A-9F06-4D34-B325-91D9CA98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6633-88E2-46E0-AC96-7B5D0BFD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5FDE-205A-4275-9B6A-EF4F11C7BF2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81ED-43D5-4B7A-8961-9FBD17808BE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ocm2006.narod.ru/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утешествие по Библи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мина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-5716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121932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 </a:t>
            </a: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«Не к постыжению вашему пишу си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 </a:t>
            </a: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но вразумляю вас, как возлюбленных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 </a:t>
            </a: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детей моих. Ибо, хотя у вас тысяч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наставников во Христе, но не много отцов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 </a:t>
            </a: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я родил вас во Христе Иисус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 </a:t>
            </a: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благовествование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 </a:t>
            </a: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Посему умоляю вас: подражайте мне…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09680" y="152280"/>
            <a:ext cx="43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cc"/>
                </a:solidFill>
                <a:latin typeface="Arial Narrow"/>
              </a:rPr>
              <a:t>1 Коринфянам 4:14-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47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3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505320" y="2286000"/>
            <a:ext cx="22096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приме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457200"/>
            <a:ext cx="29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380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imes New Roman"/>
              </a:rPr>
              <a:t>Занятие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68480" y="2362320"/>
            <a:ext cx="616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нцип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________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124080" y="4267080"/>
            <a:ext cx="1765440" cy="1791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27160" y="1219320"/>
            <a:ext cx="85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ринципы позитивного воспит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47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-5716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12193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 </a:t>
            </a: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«Ученик не бывает выше своего учителя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но, и усовершенствовавшись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будет всякий, как учитель его»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01120" y="1522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cc"/>
                </a:solidFill>
                <a:latin typeface="Arial Narrow"/>
              </a:rPr>
              <a:t>Луки 6: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47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cc"/>
                </a:solidFill>
                <a:latin typeface="Arial"/>
              </a:rPr>
              <a:t>Наш адрес в интернете</a:t>
            </a:r>
            <a:br>
              <a:rPr sz="3600"/>
            </a:br>
            <a:r>
              <a:rPr b="0" lang="en-US" sz="36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pocm2006.narod.ru</a:t>
            </a:r>
            <a:br>
              <a:rPr sz="3600"/>
            </a:b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E-mail: pocm2006@yandex.ru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4080" y="2205000"/>
            <a:ext cx="682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cc"/>
                </a:solidFill>
                <a:latin typeface="Times New Roman"/>
              </a:rPr>
              <a:t>Как быть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cc"/>
                </a:solidFill>
                <a:latin typeface="Times New Roman"/>
              </a:rPr>
              <a:t>мудрым родителе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cc"/>
                </a:solidFill>
                <a:latin typeface="Times New Roman"/>
              </a:rPr>
              <a:t>в безумном мир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5943600"/>
            <a:ext cx="8381880" cy="719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2080" y="228600"/>
            <a:ext cx="560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Как быть мудрым родител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в безумном ми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46480" y="316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4880" y="19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794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6920" y="1676520"/>
            <a:ext cx="17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Занятие 1,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4320" y="2057400"/>
            <a:ext cx="89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Times New Roman"/>
              </a:rPr>
              <a:t>Как воспитать детей со знаком «+» в мире со знаком «–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96920" y="2971800"/>
            <a:ext cx="16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Занятие 3,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0320" y="3429000"/>
            <a:ext cx="79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Times New Roman"/>
              </a:rPr>
              <a:t>Как полностью развить потенциал вашего ребе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20960" y="4267080"/>
            <a:ext cx="19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Занятие 5,6,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9560" y="4638600"/>
            <a:ext cx="70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Times New Roman"/>
              </a:rPr>
              <a:t>Как эффективно дисциплинировать ребенка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3240" y="5638680"/>
            <a:ext cx="16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Занятие 8,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9080" y="5969160"/>
            <a:ext cx="740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Times New Roman"/>
              </a:rPr>
              <a:t>Пять основополагающих «камней» воспитания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1143000" cy="5486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143000" y="152280"/>
            <a:ext cx="800100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143000" y="609480"/>
            <a:ext cx="8001000" cy="6248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1143000" y="609480"/>
            <a:ext cx="8001000" cy="6248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8036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33880" y="117360"/>
            <a:ext cx="152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анятие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1143000" y="609480"/>
            <a:ext cx="8001000" cy="6248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832040" y="914400"/>
            <a:ext cx="632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9900"/>
                </a:solidFill>
                <a:latin typeface="Arial Narrow"/>
              </a:rPr>
              <a:t>Как воспитать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9900"/>
                </a:solidFill>
                <a:latin typeface="Arial Narrow"/>
              </a:rPr>
              <a:t>детей со </a:t>
            </a:r>
            <a:r>
              <a:rPr b="0" i="1" lang="ru-RU" sz="5400" spc="-1" strike="noStrike">
                <a:solidFill>
                  <a:srgbClr val="ff9900"/>
                </a:solidFill>
                <a:latin typeface="Arial"/>
              </a:rPr>
              <a:t>знаком</a:t>
            </a:r>
            <a:r>
              <a:rPr b="0" i="1" lang="ru-RU" sz="5400" spc="-1" strike="noStrike">
                <a:solidFill>
                  <a:srgbClr val="ff9900"/>
                </a:solidFill>
                <a:latin typeface="Arial Narrow"/>
              </a:rPr>
              <a:t> «+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9900"/>
                </a:solidFill>
                <a:latin typeface="Arial Narrow"/>
              </a:rPr>
              <a:t>в мире со знаком «–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3228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2666880" y="3809880"/>
            <a:ext cx="4791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3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962520" y="2819520"/>
            <a:ext cx="2971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позитивны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457200"/>
            <a:ext cx="29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30492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Times New Roman"/>
              </a:rPr>
              <a:t>Занятие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048120" y="4648320"/>
            <a:ext cx="1765080" cy="1790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114300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99"/>
                </a:solidFill>
                <a:latin typeface="Arial"/>
              </a:rPr>
              <a:t>Принципы позитивного воспита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2209680"/>
            <a:ext cx="8305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. Позитивное воспитание   начинается с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___________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етко определенных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3352680"/>
            <a:ext cx="17524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зада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47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-5716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162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431720" y="1219320"/>
            <a:ext cx="63133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«И вы, отцы, не раздражайт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детей ваших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но воспитывайте их в учен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и наставлении Господнем».</a:t>
            </a:r>
            <a:r>
              <a:rPr b="0" i="1" lang="ru-RU" sz="3600" spc="-1" strike="noStrike">
                <a:solidFill>
                  <a:srgbClr val="0066cc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cc"/>
                </a:solidFill>
                <a:latin typeface="Arial Narrow"/>
              </a:rPr>
              <a:t>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8840" y="0"/>
            <a:ext cx="27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cc"/>
                </a:solidFill>
                <a:latin typeface="Arial Narrow"/>
              </a:rPr>
              <a:t>Ефесянам 6: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777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3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200400" y="2209680"/>
            <a:ext cx="533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целенаправленности</a:t>
            </a:r>
            <a:r>
              <a:rPr b="1" lang="ru-RU" sz="4400" spc="-1" strike="noStrike">
                <a:solidFill>
                  <a:srgbClr val="ff0000"/>
                </a:solidFill>
                <a:latin typeface="Arial Narrow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457200"/>
            <a:ext cx="29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71800" y="304920"/>
            <a:ext cx="35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imes New Roman"/>
              </a:rPr>
              <a:t>Занятие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6520" y="2236680"/>
            <a:ext cx="246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7440" y="3352680"/>
            <a:ext cx="796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Бог желает вашему ребенку одного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мир – совершенно иног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00400" y="5067360"/>
            <a:ext cx="1765440" cy="17906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27160" y="1219320"/>
            <a:ext cx="85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ринципы позитивного воспит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47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-5716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65000" y="1828800"/>
            <a:ext cx="7326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«…тем и предопределил быт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подобными образу Сына Своего…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cc"/>
                </a:solidFill>
                <a:latin typeface="Arial Narrow"/>
              </a:rPr>
              <a:t>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560" y="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cc"/>
                </a:solidFill>
                <a:latin typeface="Arial Narrow"/>
              </a:rPr>
              <a:t>Римлянам 8: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47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30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09680" y="3048120"/>
            <a:ext cx="190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дел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457200"/>
            <a:ext cx="29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0"/>
            <a:ext cx="35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imes New Roman"/>
              </a:rPr>
              <a:t>Занятие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9800" y="1828800"/>
            <a:ext cx="756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Позитивное воспитание возможн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при условии, если мы подкрепляе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слов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_______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705720" y="3809880"/>
            <a:ext cx="1765080" cy="1791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50840" y="914400"/>
            <a:ext cx="85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ринципы позитивного воспит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9400" y="3990960"/>
            <a:ext cx="572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учше один раз увидеть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ем сто раз услыша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47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08:37:28Z</dcterms:created>
  <dc:creator>Anya</dc:creator>
  <dc:description/>
  <dc:language>en-US</dc:language>
  <cp:lastModifiedBy>Жанна</cp:lastModifiedBy>
  <dcterms:modified xsi:type="dcterms:W3CDTF">2006-07-11T14:50:20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42755878</vt:r8>
  </property>
  <property fmtid="{D5CDD505-2E9C-101B-9397-08002B2CF9AE}" pid="3" name="_AuthorEmail">
    <vt:lpwstr>wtb@wtb.kiev.ua</vt:lpwstr>
  </property>
  <property fmtid="{D5CDD505-2E9C-101B-9397-08002B2CF9AE}" pid="4" name="_AuthorEmailDisplayName">
    <vt:lpwstr>wtb</vt:lpwstr>
  </property>
  <property fmtid="{D5CDD505-2E9C-101B-9397-08002B2CF9AE}" pid="5" name="_EmailSubject">
    <vt:lpwstr>4</vt:lpwstr>
  </property>
  <property fmtid="{D5CDD505-2E9C-101B-9397-08002B2CF9AE}" pid="6" name="_ReviewingToolsShownOnce">
    <vt:lpwstr/>
  </property>
</Properties>
</file>