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D88-BEB6-4C21-B3BE-D71B86CF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99F-2927-4FA1-89A1-8A27E6B3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6E6-F018-4E10-B210-E3F45FBB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1A4-B572-4185-84FE-F8F19998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1BDA-11CF-4F31-8646-2250961E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C0A3-C0E3-4544-A4EB-CA7F93CE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9EA6-839D-4C72-9C46-B8C5E855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44A2-70D4-409D-8F49-FD9B5E4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1C0-9F85-4CE8-82EE-57E7756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2AFD-8ECD-4578-B964-076895C7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F74D-4194-4FEE-A54A-1462171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F77-1F4A-4A03-A268-90537ABD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E0D9-2F82-49B3-B287-A4D7F62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214-B609-40DE-A5DA-4987E94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5217-0AC0-487F-92F6-BB130A3F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66D2-B6D6-4EF9-8421-B7D1475F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8BC8-7EE9-400A-9078-42107BC4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3E1-2F36-416B-9011-B6D760E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4F7-91C4-42A1-AA6D-AA34B60C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73C-7697-4A12-908A-E34A2232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8CC-4CD8-4A42-853D-CE45507E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752-1820-41A8-A8BF-2EDC7AC8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4BA-2528-4592-B335-2B910CD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A9E-05D5-464F-B2CB-57AA66D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2A3-FAFA-4195-9621-6CD3701712C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0F7-A3F9-42A6-B2CA-3D7D876C511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ocm2006.narod.ru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утешествие по Библ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мина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12193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Не к постыжению вашему пишу с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о вразумляю вас, как возлюблен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детей моих. Ибо, хотя у вас тыся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аставников во Христе, но не много отцов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я родил вас во Христе Иисус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благовествов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Посему умоляю вас: подражайте мне…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15228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1 Коринфянам 4:14-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05320" y="2286000"/>
            <a:ext cx="22096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прим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8480" y="2362320"/>
            <a:ext cx="61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________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1765440" cy="179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7160" y="1219320"/>
            <a:ext cx="85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нципы позитив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Ученик не бывает выше своего учителя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о, и усовершенствовавшис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будет всякий, как учитель его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1120" y="1522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Луки 6: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cc"/>
                </a:solidFill>
                <a:latin typeface="Arial"/>
              </a:rPr>
              <a:t>Наш адрес в интернете</a:t>
            </a:r>
            <a:br>
              <a:rPr sz="3600"/>
            </a:b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pocm2006.narod.ru</a:t>
            </a:r>
            <a:br>
              <a:rPr sz="3600"/>
            </a:b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E-mail: pocm2006@yandex.ru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4080" y="2205000"/>
            <a:ext cx="682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Times New Roman"/>
              </a:rPr>
              <a:t>Как быт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Times New Roman"/>
              </a:rPr>
              <a:t>мудрым родител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Times New Roman"/>
              </a:rPr>
              <a:t>в безумном мир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8381880" cy="71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2080" y="228600"/>
            <a:ext cx="56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Как быть мудрым родите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 безум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64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48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6920" y="1676520"/>
            <a:ext cx="17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1,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4320" y="2057400"/>
            <a:ext cx="89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Как воспитать детей со знаком «+» в мире со знаком «–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6920" y="29718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3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0320" y="3429000"/>
            <a:ext cx="79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Как полностью развить потенциал вашего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0960" y="426708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5,6,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9560" y="4638600"/>
            <a:ext cx="70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Как эффективно дисциплинировать ребенк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3240" y="563868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нятие 8,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9080" y="5969160"/>
            <a:ext cx="740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Пять основополагающих «камней» воспитания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143000" cy="5486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143000" y="152280"/>
            <a:ext cx="80010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143000" y="609480"/>
            <a:ext cx="8001000" cy="624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143000" y="609480"/>
            <a:ext cx="8001000" cy="6248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036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33880" y="11736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анятие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143000" y="609480"/>
            <a:ext cx="8001000" cy="6248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32040" y="914400"/>
            <a:ext cx="632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Как воспитат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детей со </a:t>
            </a:r>
            <a:r>
              <a:rPr b="0" i="1" lang="ru-RU" sz="5400" spc="-1" strike="noStrike">
                <a:solidFill>
                  <a:srgbClr val="ff9900"/>
                </a:solidFill>
                <a:latin typeface="Arial"/>
              </a:rPr>
              <a:t>знаком</a:t>
            </a: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 «+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9900"/>
                </a:solidFill>
                <a:latin typeface="Arial Narrow"/>
              </a:rPr>
              <a:t>в мире со знаком «–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322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2666880" y="3809880"/>
            <a:ext cx="4791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62520" y="2819520"/>
            <a:ext cx="297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позитив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3049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1765080" cy="1790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14300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99"/>
                </a:solidFill>
                <a:latin typeface="Arial"/>
              </a:rPr>
              <a:t>Принципы позитивного воспита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20968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Позитивное воспитание   начинается 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___________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тко определенных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352680"/>
            <a:ext cx="1752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зад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162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31720" y="1219320"/>
            <a:ext cx="631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И вы, отцы, не раздражайт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детей ваши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но воспитывайте их в учен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и наставлении Господнем».</a:t>
            </a:r>
            <a:r>
              <a:rPr b="0" i="1" lang="ru-RU" sz="3600" spc="-1" strike="noStrike">
                <a:solidFill>
                  <a:srgbClr val="0066cc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cc"/>
                </a:solidFill>
                <a:latin typeface="Arial Narrow"/>
              </a:rPr>
              <a:t>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840" y="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Ефесянам 6: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777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00400" y="2209680"/>
            <a:ext cx="533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целенаправленности</a:t>
            </a: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30492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6520" y="2236680"/>
            <a:ext cx="24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7440" y="3352680"/>
            <a:ext cx="796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г желает вашему ребенку одног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мир – совершенно иног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5067360"/>
            <a:ext cx="1765440" cy="1790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7160" y="1219320"/>
            <a:ext cx="85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нципы позитив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5000" y="1828800"/>
            <a:ext cx="732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«…тем и предопределил бы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cc"/>
                </a:solidFill>
                <a:latin typeface="Arial Narrow"/>
              </a:rPr>
              <a:t>подобными образу Сына Своего…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cc"/>
                </a:solidFill>
                <a:latin typeface="Arial Narrow"/>
              </a:rPr>
              <a:t>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560" y="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 Narrow"/>
              </a:rPr>
              <a:t>Римлянам 8: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3048120"/>
            <a:ext cx="190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дел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45720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9800" y="1828800"/>
            <a:ext cx="756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зитивное воспитание возможн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ри условии, если мы подкрепля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сло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_______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1765080" cy="1791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0840" y="914400"/>
            <a:ext cx="85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ринципы позитив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9400" y="3990960"/>
            <a:ext cx="572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учше один раз увидет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м сто раз услыш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8:37:28Z</dcterms:created>
  <dc:creator>Anya</dc:creator>
  <dc:description/>
  <dc:language>en-US</dc:language>
  <cp:lastModifiedBy>Жанна</cp:lastModifiedBy>
  <dcterms:modified xsi:type="dcterms:W3CDTF">2006-07-11T14:50:20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2755878</vt:r8>
  </property>
  <property fmtid="{D5CDD505-2E9C-101B-9397-08002B2CF9AE}" pid="3" name="_AuthorEmail">
    <vt:lpwstr>wtb@wtb.kiev.ua</vt:lpwstr>
  </property>
  <property fmtid="{D5CDD505-2E9C-101B-9397-08002B2CF9AE}" pid="4" name="_AuthorEmailDisplayName">
    <vt:lpwstr>wtb</vt:lpwstr>
  </property>
  <property fmtid="{D5CDD505-2E9C-101B-9397-08002B2CF9AE}" pid="5" name="_EmailSubject">
    <vt:lpwstr>4</vt:lpwstr>
  </property>
  <property fmtid="{D5CDD505-2E9C-101B-9397-08002B2CF9AE}" pid="6" name="_ReviewingToolsShownOnce">
    <vt:lpwstr/>
  </property>
</Properties>
</file>